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4.wmf" ContentType="image/x-wmf"/>
  <Override PartName="/ppt/media/image5.png" ContentType="image/png"/>
  <Override PartName="/ppt/media/image18.png" ContentType="image/png"/>
  <Override PartName="/ppt/media/image7.jpeg" ContentType="image/jpeg"/>
  <Override PartName="/ppt/media/image28.jpeg" ContentType="image/jpeg"/>
  <Override PartName="/ppt/media/image6.wmf" ContentType="image/x-wmf"/>
  <Override PartName="/ppt/media/image11.png" ContentType="image/png"/>
  <Override PartName="/ppt/media/image10.wmf" ContentType="image/x-wmf"/>
  <Override PartName="/ppt/media/image25.png" ContentType="image/png"/>
  <Override PartName="/ppt/media/image8.wmf" ContentType="image/x-wmf"/>
  <Override PartName="/ppt/media/image9.wmf" ContentType="image/x-wmf"/>
  <Override PartName="/ppt/media/image12.wmf" ContentType="image/x-wmf"/>
  <Override PartName="/ppt/media/image30.wmf" ContentType="image/x-wmf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2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14.jpeg" ContentType="image/jpeg"/>
  <Override PartName="/ppt/media/image16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2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50B3-556D-4532-9D0D-793C4A45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3895-7367-4452-9E7B-51FBDC2D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0473-D1D7-40E8-9F28-986394C9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F8E-D02A-41B1-8B9C-4F84259F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5871-A3F1-41B3-81C7-CDC21E8E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C552-F738-478A-83B8-DCF35113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B5E-33CF-4F9D-A7F4-8206D8D5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44DF-A9AB-4887-BC08-8CA6E76A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2C78-D503-495C-8F40-349C6E80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DB00-9F80-437E-814B-6DDC0B1B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4237-504F-493C-B1BB-0E52245C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122-8DC8-4E12-A279-00C33E73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0C33-1C76-482C-80CB-D230B05FE3F7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First Conditiona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j0406124"/>
          <p:cNvPicPr/>
          <p:nvPr/>
        </p:nvPicPr>
        <p:blipFill>
          <a:blip r:embed="rId2"/>
          <a:stretch/>
        </p:blipFill>
        <p:spPr>
          <a:xfrm>
            <a:off x="3276720" y="3213000"/>
            <a:ext cx="28810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j0282588"/>
          <p:cNvPicPr/>
          <p:nvPr/>
        </p:nvPicPr>
        <p:blipFill>
          <a:blip r:embed="rId2"/>
          <a:stretch/>
        </p:blipFill>
        <p:spPr>
          <a:xfrm>
            <a:off x="2239920" y="981000"/>
            <a:ext cx="52275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0000"/>
                </a:solidFill>
                <a:latin typeface="Arial"/>
              </a:rPr>
              <a:t>If you don´t sleep well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0000"/>
                </a:solidFill>
                <a:latin typeface="Arial"/>
              </a:rPr>
              <a:t>you will get asleep in the classroom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1.-  If you ________ an apple every day,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you'll be very healt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5357880" y="2637000"/>
            <a:ext cx="23241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2 If we don't protect the elepha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t ________ extin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572000" y="2492280"/>
            <a:ext cx="2614680" cy="32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3 She ________ completely differ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f  she cuts her hair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O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2880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You'll pay higher insurance if you ________ a sports car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(BU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3851280" y="3213000"/>
            <a:ext cx="410544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You ________  to see better if you turn on the lamp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(be able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5207040" y="2276640"/>
            <a:ext cx="25700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You ________ heart disease if you eat too much meat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(g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4140360" y="3284640"/>
            <a:ext cx="41767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6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6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6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f you don't put so much sugar in your coffee, you ________ so much weight!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(not put 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356000" y="3789360"/>
            <a:ext cx="374508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f a deer ________ into your garden, it ________ all your plants.(get/eat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5140440" y="2205000"/>
            <a:ext cx="3127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47592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first conditional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is a structure used for talking about possibilities in the present or in the future. This page will explain how the first conditional is formed, and when to use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bd06551_"/>
          <p:cNvPicPr/>
          <p:nvPr/>
        </p:nvPicPr>
        <p:blipFill>
          <a:blip r:embed="rId1"/>
          <a:stretch/>
        </p:blipFill>
        <p:spPr>
          <a:xfrm>
            <a:off x="5580000" y="2252520"/>
            <a:ext cx="316872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f I ________ some eggs, how many ________?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(cook/e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5580000" y="2509920"/>
            <a:ext cx="259236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j0410138"/>
          <p:cNvPicPr/>
          <p:nvPr/>
        </p:nvPicPr>
        <p:blipFill>
          <a:blip r:embed="rId1"/>
          <a:stretch/>
        </p:blipFill>
        <p:spPr>
          <a:xfrm>
            <a:off x="2641680" y="1828800"/>
            <a:ext cx="3859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140000" y="2781000"/>
            <a:ext cx="4546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f I practice Yog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 will get the ba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 will be in peac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ET’S DO THESE EXCERCIS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j0212179"/>
          <p:cNvPicPr/>
          <p:nvPr/>
        </p:nvPicPr>
        <p:blipFill>
          <a:blip r:embed="rId1"/>
          <a:stretch/>
        </p:blipFill>
        <p:spPr>
          <a:xfrm>
            <a:off x="2189160" y="1773360"/>
            <a:ext cx="399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. If you (not study), you (fail) the test.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. We (die) if we (not get) help soon!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. If you (look) in the fridge, you (fin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me cold drinks.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4. If there (be) no oil in the engine, the c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break) down.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5. I (lend) you my umbrella if you (need) it.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6. The sea level (rise) if the planet (get) hotter.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7. If you (eat) your sandwiches now, you (hav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ything  for lunch!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8. You (be) safe in an accident if you (wear)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atbelt.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9. If he (save) all his money, he (be able to g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n  holiday to Canada.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0. I (not come) with you if you (not bring) John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ff00"/>
                </a:solidFill>
                <a:latin typeface="Arial"/>
              </a:rPr>
              <a:t>Si hoy aprendiste, estás en la cima</a:t>
            </a:r>
            <a:br>
              <a:rPr sz="4000"/>
            </a:br>
            <a:r>
              <a:rPr b="0" lang="es-MX" sz="4000" spc="-1" strike="noStrike">
                <a:solidFill>
                  <a:srgbClr val="00ff00"/>
                </a:solidFill>
                <a:latin typeface="Arial"/>
              </a:rPr>
              <a:t>CONGRATULATIONS</a:t>
            </a:r>
            <a:r>
              <a:rPr b="0" lang="es-MX" sz="4000" spc="-1" strike="noStrike">
                <a:solidFill>
                  <a:srgbClr val="ccff33"/>
                </a:solidFill>
                <a:latin typeface="Arial"/>
              </a:rPr>
              <a:t>!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j0406120"/>
          <p:cNvPicPr/>
          <p:nvPr/>
        </p:nvPicPr>
        <p:blipFill>
          <a:blip r:embed="rId1"/>
          <a:stretch/>
        </p:blipFill>
        <p:spPr>
          <a:xfrm>
            <a:off x="2584440" y="2349360"/>
            <a:ext cx="37162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+ condition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f you study har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ult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you will pass the 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j0406148"/>
          <p:cNvPicPr/>
          <p:nvPr/>
        </p:nvPicPr>
        <p:blipFill>
          <a:blip r:embed="rId1"/>
          <a:stretch/>
        </p:blipFill>
        <p:spPr>
          <a:xfrm>
            <a:off x="5076720" y="2836800"/>
            <a:ext cx="33829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6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6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6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6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6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ff"/>
                </a:solidFill>
                <a:latin typeface="Arial"/>
              </a:rPr>
              <a:t>You will pass the t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+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ff"/>
                </a:solidFill>
                <a:latin typeface="Arial"/>
              </a:rPr>
              <a:t>if you study har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j0407948"/>
          <p:cNvPicPr/>
          <p:nvPr/>
        </p:nvPicPr>
        <p:blipFill>
          <a:blip r:embed="rId2"/>
          <a:stretch/>
        </p:blipFill>
        <p:spPr>
          <a:xfrm>
            <a:off x="4356000" y="2779560"/>
            <a:ext cx="403236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+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3399"/>
                </a:solidFill>
                <a:latin typeface="Arial"/>
              </a:rPr>
              <a:t>if</a:t>
            </a:r>
            <a:r>
              <a:rPr b="0" lang="es-CL" sz="2800" spc="-1" strike="noStrike">
                <a:solidFill>
                  <a:srgbClr val="ff3399"/>
                </a:solidFill>
                <a:latin typeface="Arial"/>
              </a:rPr>
              <a:t> + subject + simple present 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99"/>
                </a:solidFill>
                <a:latin typeface="Arial"/>
              </a:rPr>
              <a:t>subject + </a:t>
            </a:r>
            <a:r>
              <a:rPr b="0" i="1" lang="es-CL" sz="2800" spc="-1" strike="noStrike">
                <a:solidFill>
                  <a:srgbClr val="ff3399"/>
                </a:solidFill>
                <a:latin typeface="Arial"/>
              </a:rPr>
              <a:t>will</a:t>
            </a:r>
            <a:r>
              <a:rPr b="0" lang="es-CL" sz="2800" spc="-1" strike="noStrike">
                <a:solidFill>
                  <a:srgbClr val="ff3399"/>
                </a:solidFill>
                <a:latin typeface="Arial"/>
              </a:rPr>
              <a:t> + 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j0404267"/>
          <p:cNvPicPr/>
          <p:nvPr/>
        </p:nvPicPr>
        <p:blipFill>
          <a:blip r:embed="rId2"/>
          <a:stretch/>
        </p:blipFill>
        <p:spPr>
          <a:xfrm>
            <a:off x="5292720" y="2997360"/>
            <a:ext cx="29862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sing the first cond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he first conditional is used to talk about things which are possible in the present or the future -- things which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may happe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j0407960"/>
          <p:cNvPicPr/>
          <p:nvPr/>
        </p:nvPicPr>
        <p:blipFill>
          <a:blip r:embed="rId1"/>
          <a:stretch/>
        </p:blipFill>
        <p:spPr>
          <a:xfrm>
            <a:off x="5292720" y="2708280"/>
            <a:ext cx="3146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554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f it's sunny, we'll go to the pa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Maybe it will be sunny -- that's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j0410469"/>
          <p:cNvPicPr/>
          <p:nvPr/>
        </p:nvPicPr>
        <p:blipFill>
          <a:blip r:embed="rId1"/>
          <a:stretch/>
        </p:blipFill>
        <p:spPr>
          <a:xfrm>
            <a:off x="5292720" y="2852640"/>
            <a:ext cx="3041640" cy="34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ula will be sad if Juan l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Maybe Juan will leave -- that's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j0407994"/>
          <p:cNvPicPr/>
          <p:nvPr/>
        </p:nvPicPr>
        <p:blipFill>
          <a:blip r:embed="rId2"/>
          <a:stretch/>
        </p:blipFill>
        <p:spPr>
          <a:xfrm>
            <a:off x="5292720" y="2335320"/>
            <a:ext cx="32400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f you cook the supper, I'll wash the dis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Maybe you will cook the supper -- that's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j0396086"/>
          <p:cNvPicPr/>
          <p:nvPr/>
        </p:nvPicPr>
        <p:blipFill>
          <a:blip r:embed="rId2"/>
          <a:stretch/>
        </p:blipFill>
        <p:spPr>
          <a:xfrm>
            <a:off x="5580000" y="2421000"/>
            <a:ext cx="27957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6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6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1:35:57Z</dcterms:created>
  <dc:creator>Andrea Ibaceta Guerra</dc:creator>
  <dc:description/>
  <dc:language>en-US</dc:language>
  <cp:lastModifiedBy>DPTO Ingles</cp:lastModifiedBy>
  <dcterms:modified xsi:type="dcterms:W3CDTF">2012-03-09T10:50:27Z</dcterms:modified>
  <cp:revision>29</cp:revision>
  <dc:subject/>
  <dc:title>First Conditional </dc:title>
</cp:coreProperties>
</file>